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6E68-F5B9-43CE-9A8F-AC7E7987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628F-2201-4915-B861-3786488F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244-7259-49EA-AC67-A1E227B0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8E8-2402-49C3-9FEB-84BBA13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4A1-6235-40F8-997D-9E286E4A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655-002E-4E8C-B98F-EF82E77E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564-B042-4356-90BB-87631B3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955-22AE-4951-98B6-EAF56AC8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788-39A4-421E-8F93-9438F69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7E1-5DE7-47A2-ABE1-B5A9433E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373-424D-4311-8363-313F7611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B57-917C-4582-AC86-FE35980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1F2-A974-4965-B3A1-12364E9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C9D-8602-4B37-8277-622D092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D812-27A2-4A2A-BBB0-0BAF15E7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Monica comer helado.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e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!Hola bonitas¡ Yo tengo hambre. ¿Quie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3:10Z</dcterms:created>
  <dc:creator>FriscoISD</dc:creator>
  <dc:description/>
  <dc:language>en-US</dc:language>
  <cp:lastModifiedBy>NYCDOE</cp:lastModifiedBy>
  <dcterms:modified xsi:type="dcterms:W3CDTF">2012-12-05T14:08:31Z</dcterms:modified>
  <cp:revision>102</cp:revision>
  <dc:subject/>
  <dc:title>Profile</dc:title>
</cp:coreProperties>
</file>